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615-96F2-437E-8EB9-63061B2C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CBC-2539-42D9-838B-5E235BD7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8D5-60C7-49E2-B901-611977FF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455-A9C2-428F-A3D0-6B64AA3F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6A3-260F-46C1-B1FF-9FF2435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ECE-2DE6-4597-82B0-D1302A0B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486-0B03-46E2-8016-4B5D9F11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7CE-2CD8-4719-8D2D-C7FB842C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B25-0F70-437F-BEE0-8E43385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A10-E789-4914-A82E-A5A09EA7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83A-A41B-4E03-8916-ED56FFB9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B86-0333-49FC-A57F-D148EADD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D19-419C-470C-9C07-AEAFA1D9F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9280" y="41907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er: Construct an acute and an obtuse angle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neighbor measure the angles.  Check to see if you agree on the measureme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geometric figures using a variety of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begin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-  to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ractor – tool used to measure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information would you need to create a triangle in terms of angles and sides?  Do you really need to know all 3 angles and side lengths to create a triang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-Side-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type of construction, you are provid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angle meas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gth of one 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your triang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draw th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create one angle on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create the other angle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sides are created where they inter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6576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4197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3341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6629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640044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867280" y="33526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553080" y="42670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1532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162920" y="457164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629400" y="60958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7695720" y="6095880"/>
            <a:ext cx="12956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-Side-Ang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apply these steps to the following clues: 4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°, 103° and a side that’s 3 inches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9:26:56Z</dcterms:created>
  <dc:creator>deanne elizabeth mcgrath</dc:creator>
  <dc:description/>
  <dc:language>en-US</dc:language>
  <cp:lastModifiedBy>deanne elizabeth mcgrath</cp:lastModifiedBy>
  <dcterms:modified xsi:type="dcterms:W3CDTF">2011-02-09T19:28:41Z</dcterms:modified>
  <cp:revision>1</cp:revision>
  <dc:subject/>
  <dc:title>Opener: Construct an acute and an obtuse angle.   Have a neighbor measure the angles.  Check to see if you agree on the measurement. </dc:title>
</cp:coreProperties>
</file>